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04840" y="-360"/>
            <a:ext cx="29019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93520" y="739440"/>
            <a:ext cx="4924440" cy="36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f0071"/>
                </a:solidFill>
                <a:latin typeface="Rdg Vesta"/>
              </a:rPr>
              <a:t>Click to move the slid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1040" y="4687560"/>
            <a:ext cx="5365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0196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04840" y="9372240"/>
            <a:ext cx="290196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92C43-C0E7-4C25-B78A-BD3589E127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dg Vest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93880" y="739800"/>
            <a:ext cx="492732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93880" y="739800"/>
            <a:ext cx="492732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93880" y="739800"/>
            <a:ext cx="49291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93880" y="739800"/>
            <a:ext cx="492732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63BB-66FC-4B26-89D4-D680B82A1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280" y="386388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1BBA-1D34-46B8-89BC-4C7BE0B37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464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8B8D-A7ED-4321-A509-B7130BF08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368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244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28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368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244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60FD-5945-4523-8D7C-6FA86A82C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0C5CD-19BE-4F2D-BBE6-2075A2E6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1599840"/>
            <a:ext cx="792180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BF6FC-1CD2-4FB7-A68F-9953A2B0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2180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3897C-6FDB-4B21-B16F-29E92392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B99A6-A50C-47D8-BA52-78A32395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8E5FB-B52A-49CE-8B3F-A385EABE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640" y="225000"/>
            <a:ext cx="618336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DDBC7-36A8-405D-9903-13C06F29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1AD83-2BD5-4499-818F-61A816BB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280" y="1599840"/>
            <a:ext cx="792180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AF79-60F7-49C5-AE5F-1867B514A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1464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CB33F-A1B4-41E8-80FC-44AC2584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D8ADA-2BBF-47ED-986F-F2A2173D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55280" y="386388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2F6C6-CE61-43A4-9084-387D0075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1464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CCCA7-37CB-4DF8-8420-46DEC63F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368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244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5528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368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244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E4282-5333-4212-A472-5818860E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2180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4926-A32D-4856-B89A-455D6FA3F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8281-AAF6-42CE-AC9E-8C9713E17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4F6F-6130-4614-ADC1-2EDFAB820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225000"/>
            <a:ext cx="618336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8407-1317-4E97-9F0A-95944A49D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8ECF-E7FC-4758-8620-9D99D7BA2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464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9B94-5390-4D15-9D55-F6A4ACAFB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AF9C-185D-456C-B1C6-145AAFC6F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438120"/>
            <a:ext cx="1184400" cy="38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f0071"/>
                </a:solidFill>
                <a:latin typeface="Rdg Vesta"/>
              </a:rPr>
              <a:t>Click to edit the title text format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599840"/>
            <a:ext cx="792180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3" marL="16002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4" marL="20574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5" marL="2057400" indent="-22860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6" marL="2057400" indent="-22860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1920" y="6519960"/>
            <a:ext cx="667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Rdg Vest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26F01-31DC-4EE3-A921-E8BB19C9B6AE}" type="slidenum">
              <a:rPr b="0" lang="en-GB" sz="1400" spc="-1" strike="noStrike">
                <a:solidFill>
                  <a:srgbClr val="000000"/>
                </a:solidFill>
                <a:latin typeface="Rdg Vest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6519960"/>
            <a:ext cx="6337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Rdg Vesta"/>
              </a:rPr>
              <a:t>EU HIPST Project: UK</a:t>
            </a:r>
            <a:endParaRPr b="0" lang="en-US" sz="1400" spc="-1" strike="noStrike">
              <a:solidFill>
                <a:srgbClr val="000000"/>
              </a:solidFill>
              <a:latin typeface="Rdg Vesta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24720" y="438120"/>
            <a:ext cx="1184400" cy="385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524720" y="438120"/>
            <a:ext cx="118440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f0071"/>
                </a:solidFill>
                <a:latin typeface="Rdg Vesta"/>
              </a:rPr>
              <a:t>Click to edit the title text format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3" marL="16002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4" marL="20574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5" marL="2057400" indent="-22860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6" marL="2057400" indent="-22860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061632-7E16-4256-9788-D96B00A072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dg Vest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732040"/>
            <a:ext cx="79200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200" spc="-1" strike="noStrike">
                <a:solidFill>
                  <a:srgbClr val="bf0071"/>
                </a:solidFill>
                <a:latin typeface="Rdg Vesta"/>
              </a:rPr>
              <a:t>History and Philosophy in Science Teaching</a:t>
            </a:r>
            <a:endParaRPr b="0" lang="en-US" sz="62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55640" y="5373360"/>
            <a:ext cx="79200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Rdg Vesta"/>
                <a:ea typeface="Lucida Sans Unicode"/>
              </a:rPr>
              <a:t>John Oversby: UK Convenor (EU) HIPST</a:t>
            </a: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70000"/>
            <a:ext cx="61866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Thinking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246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6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Rdg Vesta"/>
              </a:rPr>
              <a:t>How many kinds of chemical equations are there?</a:t>
            </a:r>
            <a:endParaRPr b="0" lang="en-US" sz="40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96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Rdg Vesta"/>
              </a:rPr>
              <a:t>In equations, why do chemists use arrows instead of = signs? </a:t>
            </a:r>
            <a:endParaRPr b="0" lang="en-US" sz="40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20B0-74A6-4CAC-8D9B-E75C32A3C43C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Philosophy of science in science education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Nature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Value of Nature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Dangers of Nature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Ways forward in engaging with Nature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8F9F-D780-4BCA-BB05-BBF27567E861}" type="slidenum">
              <a:t>11</a:t>
            </a:fld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Nature of science I (NSTA)</a:t>
            </a: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‏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tific knowledge is both reliable and tentative. Having confidence in scientific knowledge is reasonable while realising that such knowledge may be abandoned or modified in light of new evidence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09FF-1384-441F-BE6D-40847FF2661F}" type="slidenum">
              <a:t>12</a:t>
            </a:fld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0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Nature of Science II (NSTA)</a:t>
            </a: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‏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hared values and perspectives characterise a scientific approach to understanding nature: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a demand for naturalistic explanations with empirical evidence and testable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observations,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rational argument,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inference,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scepticism,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peer review and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replicability of work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marL="333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20AF-44A3-45A1-98A3-6ACAAE646A59}" type="slidenum">
              <a:t>13</a:t>
            </a:fld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Nature of Science III (NSTA)</a:t>
            </a: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‏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Symbol" charset="2"/>
              <a:buChar char="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Creativity is a vital part of  the production of scientific knowledge.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Symbol" charset="2"/>
              <a:buChar char="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ce is limited to naturalistic methods and explanations with no  supernatural elements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D583-6497-4CCA-B089-BA5E5FE2A7EC}" type="slidenum">
              <a:t>14</a:t>
            </a:fld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0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Nature of Science IV (NSTA)</a:t>
            </a: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‏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93116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A primary goal of science is the formation of theories and laws, with very specific meanings.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Laws are regularities or universal relationships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Theories are inferred explanations Theories do not ever become laws; they explain laws.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Well-established laws and theories must fit best available evidence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Be successfully and widely tested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6E91-69FD-4182-A62E-5EBC36FE6ECC}" type="slidenum">
              <a:t>15</a:t>
            </a:fld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0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270000"/>
            <a:ext cx="61866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Thinking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246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6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Rdg Vesta"/>
              </a:rPr>
              <a:t>Why did early chemists look for a magic ingredient (oxygen or acid-maker) in acids?</a:t>
            </a:r>
            <a:endParaRPr b="0" lang="en-US" sz="40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7220-85AD-47E3-B62A-0E8F1C1D1C77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Value of Nature of Scienc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Links to How Science Work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Links to processes of science education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3EC1-AD03-4179-A22B-D24385137CE3}" type="slidenum">
              <a:t>17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0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Dangers of Nature of Scienc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eachers’ views of NoS are frequently naïve and incomplete (Lederman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eachers’ views of science education often conflict with expressed views of scientist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D51B-3F56-467B-A8C1-EA25ACED6DB2}" type="slidenum">
              <a:t>18</a:t>
            </a:fld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0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f0071"/>
                </a:solidFill>
                <a:latin typeface="Rdg Vesta"/>
              </a:rPr>
              <a:t>Ways forward in engaging with </a:t>
            </a:r>
            <a:br>
              <a:rPr sz="2800"/>
            </a:br>
            <a:r>
              <a:rPr b="0" lang="en-GB" sz="2800" spc="-1" strike="noStrike">
                <a:solidFill>
                  <a:srgbClr val="bf0071"/>
                </a:solidFill>
                <a:latin typeface="Rdg Vesta"/>
              </a:rPr>
              <a:t>Nature of Science</a:t>
            </a:r>
            <a:endParaRPr b="0" lang="en-US" sz="28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Better training of teachers and BTs in No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Exemplary material for teachers to use with class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BEC6-741F-4692-9240-200A4ED659B6}" type="slidenum">
              <a:t>19</a:t>
            </a:fld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dur="indefinite" fill="hold">
                      <p:stCondLst>
                        <p:cond delay="0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Invitation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Rdg Vesta"/>
              </a:rPr>
              <a:t>Association for Science Education (UK) Annual Conference: January 6-9, Nottingham.</a:t>
            </a: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  <a:p>
            <a:pPr indent="0" algn="ctr">
              <a:lnSpc>
                <a:spcPct val="94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Rdg Vesta"/>
              </a:rPr>
              <a:t>www.ase.org.uk </a:t>
            </a: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Learners’ voices about science education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Rdg Vesta"/>
              </a:rPr>
              <a:t>ROSE international project</a:t>
            </a:r>
            <a:endParaRPr b="0" lang="en-US" sz="28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300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hey dislike S&amp;T at school: S&amp;T is boring and difficult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300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hey are interested in ‘real science’ - but less in ‘school science’ (a living ‘fossil’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300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he curriculum is overloaded with ‘correct’ answers - no room for creativity, fantasy, etc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300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hey are very hesitant to </a:t>
            </a:r>
            <a:r>
              <a:rPr b="0" i="1" lang="en-GB" sz="2400" spc="-1" strike="noStrike">
                <a:solidFill>
                  <a:srgbClr val="000000"/>
                </a:solidFill>
                <a:latin typeface="Rdg Vesta"/>
              </a:rPr>
              <a:t>study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 S&amp;T and to </a:t>
            </a:r>
            <a:r>
              <a:rPr b="0" i="1" lang="en-GB" sz="2400" spc="-1" strike="noStrike">
                <a:solidFill>
                  <a:srgbClr val="000000"/>
                </a:solidFill>
                <a:latin typeface="Rdg Vesta"/>
              </a:rPr>
              <a:t>work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 with S&amp;T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300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hey often have a negative perception of scientists as </a:t>
            </a:r>
            <a:r>
              <a:rPr b="0" i="1" lang="en-GB" sz="2400" spc="-1" strike="noStrike">
                <a:solidFill>
                  <a:srgbClr val="000000"/>
                </a:solidFill>
                <a:latin typeface="Rdg Vesta"/>
              </a:rPr>
              <a:t>persons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 (no good role models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2556-941E-42D1-9E56-41BCB6A9D3A3}" type="slidenum">
              <a:t>20</a:t>
            </a:fld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fill="hold">
                      <p:stCondLst>
                        <p:cond delay="0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f0071"/>
                </a:solidFill>
                <a:latin typeface="Rdg Vesta"/>
              </a:rPr>
              <a:t>Do learners prefer school science?</a:t>
            </a:r>
            <a:endParaRPr b="0" lang="en-US" sz="3200" spc="-1" strike="noStrike">
              <a:solidFill>
                <a:srgbClr val="bf0071"/>
              </a:solidFill>
              <a:latin typeface="Rdg Vest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400720" cy="463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F257-7263-4785-BE49-8072BB4ADB39}" type="slidenum">
              <a:t>21</a:t>
            </a:fld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dur="indefinite" fill="hold">
                      <p:stCondLst>
                        <p:cond delay="0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HIPST Project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11 colleagues in 8 countri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UK, Poland, Germany, Portugal, Italy, Greece, Israel, Hungary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From Feb 2008 – July  2010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Provide curriculum and research material for trials in 8 languag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Materials to be add-on or embedded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Research: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A351-6CDD-49F5-BD52-ABC4B2009A67}" type="slidenum">
              <a:t>22</a:t>
            </a:fld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dur="indefinite" fill="hold">
                      <p:stCondLst>
                        <p:cond delay="0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dur="indefinite" fill="hold">
                      <p:stCondLst>
                        <p:cond delay="indefinite"/>
                      </p:stCondLst>
                      <p:childTnLst>
                        <p:par>
                          <p:cTn id="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92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Web site structur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eachers’ section - scholarship writing, including subject content, history and philosophy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heme of work, to provide the overview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Pupil pag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Action Research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379B-FC1E-41D8-9680-501F624D0D3A}" type="slidenum">
              <a:t>23</a:t>
            </a:fld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0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Teachers section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Principle is scholarship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ubject content - developing personal subject knowledge beyond the curriculum.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History - starts from science of the topic, then to related other sciences and then to social and political history. Rather Eurocentric at present.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Philosophy - derives fundamental ideas from the context.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1745-BB92-40C5-B1CC-6EC1FEAFFB1C}" type="slidenum">
              <a:t>24</a:t>
            </a:fld>
          </a:p>
        </p:txBody>
      </p:sp>
    </p:spTree>
  </p:cSld>
  <p:transition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dur="indefinite" fill="hold">
                      <p:stCondLst>
                        <p:cond delay="0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Pupil pages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Lesson by lesson, divided into content, history and philosophy.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Focuses on processes of history, including personal and social. Science as a community of scholar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Focuses on a few philosophical idea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Includes scientific biographies, to be translated by pupils/ teachers into intermediate languag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Input of excursions by teachers and pupils leading to personalised learning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20D5-A5C3-4F0D-8BAC-50234E44187C}" type="slidenum">
              <a:t>25</a:t>
            </a:fld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dur="indefinite" fill="hold">
                      <p:stCondLst>
                        <p:cond delay="0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Future activity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eacher training - a collaborative process to be documented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rials with pupils, pre- and post-questionnaires; individual and focus group interviews; video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Research papers, theoretical and empirica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Completion of web sit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Dissemination activiti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D057-55DC-40DD-9ADA-47E03E89EA47}" type="slidenum">
              <a:t>26</a:t>
            </a:fld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dur="indefinite" fill="hold">
                      <p:stCondLst>
                        <p:cond delay="0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dur="indefinite" fill="hold">
                      <p:stCondLst>
                        <p:cond delay="indefinite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225360"/>
            <a:ext cx="618660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Some thoughts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2468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1126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the message we send to the future.” (Abraham Lincoln; 1809—1865.)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It is not the strongest of the species that survive, nor the most intelligent, but the one most responsive to change." (Charles Darwin; 1809—1882.)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In the book of life, the answers aren't in the back." From a Charlie Brown comic strip. (Charles Schulz)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If women are to do the same work as men, we must teach them the same things." (Plato, 428-347 B.C.) </a:t>
            </a:r>
            <a:endParaRPr b="0" lang="en-US" sz="3000" spc="-1" strike="noStrike">
              <a:solidFill>
                <a:srgbClr val="000000"/>
              </a:solidFill>
              <a:latin typeface="Rdg Vest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Overview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History of science in science education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Philosophy of science in science education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Learners’ voices about  science education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HIPST Project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Future plan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74DE-131D-4811-B698-AB6F9CA3FBC2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270000"/>
            <a:ext cx="61866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Thinking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246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6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Rdg Vesta"/>
              </a:rPr>
              <a:t>Did temperature exist before we tried to measure it?</a:t>
            </a:r>
            <a:endParaRPr b="0" lang="en-US" sz="40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0267-B782-48CF-9885-DAA5331559F6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History of science in science education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ce has a history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Value of history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Dangers of history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Ways forward in history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7F48-CF64-45BF-9B37-5C2218EA7798}" type="slidenum">
              <a:t>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Science has a history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ce has been practised in the past (hundreds of years?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ce has been practised within a cultural context (www.non-western-science.wikispaces.com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ce has been practised by research groups and individual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E1B0-1644-4BB3-B15E-E996F7AC4D81}" type="slidenum">
              <a:t>7</a:t>
            </a:fld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Value of history of scienc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tories of science can provide a human perspective e.g. Marat and Lavoisier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tories of science can provide evidence of personal conflict, both scientific and socia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tories of science engage young learners (literacy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E377-EE32-42DE-AB41-ECAC1B1E9B7B}" type="slidenum">
              <a:t>8</a:t>
            </a:fld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Dangers of history of scienc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Kuhn on textbooks as a source of information: ‘stories of heroes and villains’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extbooks do not necessarily indicate how a topic was taught (intended v experienced curriculum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Lack of time to include in curriculum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CBE3-5687-43EF-B009-9A6D0839F024}" type="slidenum">
              <a:t>9</a:t>
            </a:fld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versby</dc:creator>
  <dc:description/>
  <dc:language>en-US</dc:language>
  <cp:lastModifiedBy>John Oversby</cp:lastModifiedBy>
  <cp:revision>0</cp:revision>
  <dc:subject/>
  <dc:title>History and Philosophy for Science Teaching</dc:title>
</cp:coreProperties>
</file>